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0C1-7E92-4164-9A7F-FC5FA8B8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0FB-42CA-4FFD-BF07-8F8561DF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ABA-1393-4D4E-AC3D-3B93E5CF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043-DEF2-4B4D-9B1E-22800BA1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F67-0DDF-4C01-82A9-F1819B27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778-EB63-4734-BAA4-130B7FA8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E69-8A96-4C62-951E-8F1DAA05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FC9-3838-4944-BCAC-00EFA6A2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58E-B1F5-4217-8F8E-CCAD1C61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D04-67F5-4984-9391-6357F58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116-E818-49EE-A8CB-424FA32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C63-6B59-4399-9D53-AABA394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D6DF-BE30-4ED0-A63E-A37F666D0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743280" y="981000"/>
            <a:ext cx="540072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КОЛКО ДЪЛГО, ГОСПОДИ,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СКИТАМЕ НИЕ ВЪВ БЕДИ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СРЕД БИТКИ И УМОРА ВИНАГ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А ТОЗИ СВЯТ СМЕ ЧУЖДЕНЦ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76120" y="554040"/>
            <a:ext cx="5664240" cy="42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/НО В НЕБЕТО ДАЛ СИ НИ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ГРАД ОТ ЗЛАТО, БИСЕРИ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[НИЕ НА ТЕБ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ГЛЕДАМЕ С НАДЕЖ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ДА ЖИВЕЕМ В ЕРУСАЛИМ.]  /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7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11:35Z</dcterms:created>
  <dc:creator>TrifonTrifonow</dc:creator>
  <dc:description/>
  <dc:language>en-US</dc:language>
  <cp:lastModifiedBy>TrifonTrifonow</cp:lastModifiedBy>
  <dcterms:modified xsi:type="dcterms:W3CDTF">2005-12-15T06:12:12Z</dcterms:modified>
  <cp:revision>1</cp:revision>
  <dc:subject/>
  <dc:title>Slide 1</dc:title>
</cp:coreProperties>
</file>